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32C-6628-4C74-8DC5-CBA6D273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742-A496-4E95-B5D2-8808EBC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AB5-E5B9-4AAA-B6B0-B9D67EF5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412-078D-4E73-90AB-8740E21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F45-A949-4215-8C85-1F33DCA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562-2065-4878-BE3D-17F4D5CD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128-6878-40F7-BCBA-2FEB0EF7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9E2-8ACB-4DFF-9C4B-54C6432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058-03D8-40B1-8598-EBAEFEA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87F-B6B1-4009-A147-A1B8950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66B-22D5-4F19-99EE-8C437AF6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A0E-8700-43FE-B3C2-C7DB963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DD1-91D9-44FC-B22F-7CB32A6B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Author Inform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7120" y="2625840"/>
            <a:ext cx="47196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928836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Name:</a:t>
            </a:r>
            <a:br>
              <a:rPr sz="3600"/>
            </a:br>
            <a:r>
              <a:rPr b="1" lang="en-CA" sz="5500" spc="-1" strike="noStrike">
                <a:solidFill>
                  <a:srgbClr val="ffffff"/>
                </a:solidFill>
                <a:latin typeface="Australian Sunrise"/>
              </a:rPr>
              <a:t>Sasha Korablina</a:t>
            </a:r>
            <a:br>
              <a:rPr sz="44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</a:t>
            </a: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Age: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  </a:t>
            </a:r>
            <a:r>
              <a:rPr b="1" lang="en-CA" sz="4000" spc="-1" strike="noStrike">
                <a:solidFill>
                  <a:srgbClr val="ffffff"/>
                </a:solidFill>
                <a:latin typeface="Australian Sunris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Hometow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</a:t>
            </a:r>
            <a:r>
              <a:rPr b="1" lang="en-CA" sz="4100" spc="-1" strike="noStrike">
                <a:solidFill>
                  <a:srgbClr val="ffffff"/>
                </a:solidFill>
                <a:latin typeface="Australian Sunrise"/>
              </a:rPr>
              <a:t>Kirovogra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</a:t>
            </a:r>
            <a:r>
              <a:rPr b="1" lang="en-CA" sz="3000" spc="-1" strike="noStrike">
                <a:solidFill>
                  <a:srgbClr val="ffffff"/>
                </a:solidFill>
                <a:latin typeface="Australian Sunrise"/>
              </a:rPr>
              <a:t>Nationality:</a:t>
            </a:r>
            <a:br>
              <a:rPr sz="3600"/>
            </a:br>
            <a:r>
              <a:rPr b="1" lang="en-CA" sz="3600" spc="-1" strike="noStrike">
                <a:solidFill>
                  <a:srgbClr val="ffffff"/>
                </a:solidFill>
                <a:latin typeface="Australian Sunrise"/>
              </a:rPr>
              <a:t>                      </a:t>
            </a:r>
            <a:r>
              <a:rPr b="1" lang="en-CA" sz="4300" spc="-1" strike="noStrike">
                <a:solidFill>
                  <a:srgbClr val="ffffff"/>
                </a:solidFill>
                <a:latin typeface="Australian Sunrise"/>
              </a:rPr>
              <a:t>Ukraini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1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828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Education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3</a:t>
            </a:r>
            <a:r>
              <a:rPr b="1" lang="en-US" sz="4500" spc="-1" strike="noStrike" baseline="30000">
                <a:solidFill>
                  <a:srgbClr val="333399"/>
                </a:solidFill>
                <a:latin typeface="Australian Sunrise"/>
              </a:rPr>
              <a:t>rd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year - University of Ottawa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Telfer School of Manag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Bachelor of Commerc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     </a:t>
            </a: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Concentration in Accountin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Language:</a:t>
            </a:r>
            <a:br>
              <a:rPr sz="4500"/>
            </a:br>
            <a:r>
              <a:rPr b="1" lang="en-US" sz="4500" spc="-1" strike="noStrike">
                <a:solidFill>
                  <a:srgbClr val="333399"/>
                </a:solidFill>
                <a:latin typeface="Australian Sunrise"/>
              </a:rPr>
              <a:t>English, Ukrainian, Russian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NICE TO MEET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              </a:t>
            </a: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TOO;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ENJOY AUDI WIT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               </a:t>
            </a:r>
            <a:r>
              <a:rPr b="0" lang="en-US" sz="6000" spc="-1" strike="noStrike">
                <a:solidFill>
                  <a:srgbClr val="ff0000"/>
                </a:solidFill>
                <a:latin typeface="Australian Sunrise"/>
              </a:rPr>
              <a:t>M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04:29:18Z</dcterms:created>
  <dc:creator>sexy_sasha</dc:creator>
  <dc:description/>
  <dc:language>en-US</dc:language>
  <cp:lastModifiedBy>sexy_sasha</cp:lastModifiedBy>
  <dcterms:modified xsi:type="dcterms:W3CDTF">2009-10-09T04:55:40Z</dcterms:modified>
  <cp:revision>9</cp:revision>
  <dc:subject/>
  <dc:title>Author Information:</dc:title>
</cp:coreProperties>
</file>